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774D-6093-4D5B-A261-5894FF0F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048-D47A-496C-AEF2-15CAAA4E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70EB0C0F-0C46-45A3-A413-EA3999DA23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635-3A5F-4D81-B6FF-E93616E9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62AAF6F-BB18-4853-B80B-48C6E99C88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017-945B-4AF4-BF7F-7354AE4A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B1C-D231-4073-BCFC-59A6DC2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474-2737-4FA2-B3CF-A11864F5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015-53F4-4897-949B-0F9708CF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CB7-5E1C-4EC8-B6FD-EC2B7B9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C98-4530-4153-B187-74945E9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981-F2A4-4093-ADFC-F1CE3851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400-A72F-49A6-BCBE-39D4940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9A7-5EB0-46BA-8A46-E6605D7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121-0CDC-4E09-9A73-FD9FCED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C9E-0589-4B41-8C8F-F346A41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FAB-E4FB-44A8-A522-E9622FA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86F-5BEF-48FA-BC3F-46AA1AD4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77120" y="5894280"/>
            <a:ext cx="8049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1040" y="1824120"/>
            <a:ext cx="7515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lbertus"/>
              </a:rPr>
              <a:t>Redesigned with You in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5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93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07840" y="1780920"/>
            <a:ext cx="7515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lbertus"/>
              </a:rPr>
              <a:t>Redesigned with You in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34480" y="283680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7480" y="278604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67160" y="3894120"/>
            <a:ext cx="1901880" cy="224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880" y="633420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AG Rounded Lt"/>
              </a:rPr>
              <a:t>U.S.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udio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644400" y="1252440"/>
            <a:ext cx="7642440" cy="5604120"/>
          </a:xfrm>
          <a:prstGeom prst="rect">
            <a:avLst/>
          </a:prstGeom>
          <a:ln w="0">
            <a:noFill/>
          </a:ln>
        </p:spPr>
      </p:pic>
      <p:sp>
        <p:nvSpPr>
          <p:cNvPr id="97" name="Round Diagonal Corner Rectangle 5"/>
          <p:cNvSpPr/>
          <p:nvPr/>
        </p:nvSpPr>
        <p:spPr>
          <a:xfrm>
            <a:off x="439560" y="2822400"/>
            <a:ext cx="3737160" cy="23292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udio Files will be added to the BLS website. The first will accompany the July Spotlight o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57600">
            <a:off x="3890520" y="5006880"/>
            <a:ext cx="479520" cy="884160"/>
          </a:xfrm>
          <a:prstGeom prst="upArrow">
            <a:avLst>
              <a:gd name="adj1" fmla="val 50000"/>
              <a:gd name="adj2" fmla="val 4609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457200" y="1760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uide to Geograph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3125" r="938" b="16129"/>
          <a:stretch/>
        </p:blipFill>
        <p:spPr>
          <a:xfrm>
            <a:off x="276120" y="1144440"/>
            <a:ext cx="822636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Round Diagonal Corner Rectangle 9"/>
          <p:cNvSpPr/>
          <p:nvPr/>
        </p:nvSpPr>
        <p:spPr>
          <a:xfrm>
            <a:off x="5602320" y="1254240"/>
            <a:ext cx="3301920" cy="19018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Quick view of BLS major products available by geograph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g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-185" t="3125" r="749" b="0"/>
          <a:stretch/>
        </p:blipFill>
        <p:spPr>
          <a:xfrm>
            <a:off x="468360" y="1009800"/>
            <a:ext cx="7769160" cy="5678280"/>
          </a:xfrm>
          <a:prstGeom prst="rect">
            <a:avLst/>
          </a:prstGeom>
          <a:ln w="0">
            <a:noFill/>
          </a:ln>
        </p:spPr>
      </p:pic>
      <p:sp>
        <p:nvSpPr>
          <p:cNvPr id="104" name="Round Diagonal Corner Rectangle 9"/>
          <p:cNvSpPr/>
          <p:nvPr/>
        </p:nvSpPr>
        <p:spPr>
          <a:xfrm>
            <a:off x="4800600" y="1368360"/>
            <a:ext cx="4000680" cy="19018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News releases, tables, and other products from the eight BLS Regional Information offices will now be easier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bjec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3125" r="749" b="3125"/>
          <a:stretch/>
        </p:blipFill>
        <p:spPr>
          <a:xfrm>
            <a:off x="455760" y="1309680"/>
            <a:ext cx="7742160" cy="5484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25360" y="2400480"/>
            <a:ext cx="841680" cy="23328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825400">
            <a:off x="4737600" y="4583880"/>
            <a:ext cx="515880" cy="250920"/>
          </a:xfrm>
          <a:prstGeom prst="rightArrow">
            <a:avLst>
              <a:gd name="adj1" fmla="val 50000"/>
              <a:gd name="adj2" fmla="val 513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 Diagonal Corner Rectangle 9"/>
          <p:cNvSpPr/>
          <p:nvPr/>
        </p:nvSpPr>
        <p:spPr>
          <a:xfrm>
            <a:off x="5467320" y="2443320"/>
            <a:ext cx="3216240" cy="117612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mproved navigation within subjec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atabases, Tables &amp;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3125" r="1218" b="0"/>
          <a:stretch/>
        </p:blipFill>
        <p:spPr>
          <a:xfrm>
            <a:off x="573120" y="1189080"/>
            <a:ext cx="7705800" cy="566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08160" y="2268360"/>
            <a:ext cx="1131840" cy="25884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44560" y="5440320"/>
            <a:ext cx="1770120" cy="565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965200">
            <a:off x="5186160" y="5762520"/>
            <a:ext cx="474840" cy="287280"/>
          </a:xfrm>
          <a:prstGeom prst="rightArrow">
            <a:avLst>
              <a:gd name="adj1" fmla="val 50000"/>
              <a:gd name="adj2" fmla="val 413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4.39306E-006 L 0.18333 -0.00417 E">
                                      <p:cBhvr>
                                        <p:cTn id="209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531800"/>
            <a:ext cx="7267680" cy="5329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Site Vis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5160" y="4800600"/>
            <a:ext cx="1828800" cy="1857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 Diagonal Corner Rectangle 5"/>
          <p:cNvSpPr/>
          <p:nvPr/>
        </p:nvSpPr>
        <p:spPr>
          <a:xfrm>
            <a:off x="5381640" y="1425600"/>
            <a:ext cx="3232080" cy="45100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se pages highlight resources that may be useful to specific audiences, such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Busines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Jobsee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Public Policy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Students &amp;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Survey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Site Vis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3500" r="1499" b="0"/>
          <a:stretch/>
        </p:blipFill>
        <p:spPr>
          <a:xfrm>
            <a:off x="507960" y="1209600"/>
            <a:ext cx="7688160" cy="564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8620200">
            <a:off x="1937520" y="2514240"/>
            <a:ext cx="1055880" cy="343080"/>
          </a:xfrm>
          <a:prstGeom prst="rightArrow">
            <a:avLst>
              <a:gd name="adj1" fmla="val 50000"/>
              <a:gd name="adj2" fmla="val 769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0578E-006 L -0.0382 0.07908 E">
                                      <p:cBhvr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Consu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25" r="1310" b="11380"/>
          <a:stretch/>
        </p:blipFill>
        <p:spPr>
          <a:xfrm>
            <a:off x="522360" y="1552680"/>
            <a:ext cx="7705800" cy="5006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31040" y="407340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06560" y="3027240"/>
            <a:ext cx="75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Launch: July 21,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5120" y="1353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8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82440" y="2975040"/>
            <a:ext cx="75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Launch: July 21,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4400" y="453960"/>
            <a:ext cx="21524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lbertus Medium"/>
              </a:rPr>
              <a:t>Redesigned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lbertus Medium"/>
              <a:ea typeface="Albertus Medium"/>
            </a:endParaRPr>
          </a:p>
        </p:txBody>
      </p:sp>
      <p:sp>
        <p:nvSpPr>
          <p:cNvPr id="130" name=""/>
          <p:cNvSpPr/>
          <p:nvPr/>
        </p:nvSpPr>
        <p:spPr>
          <a:xfrm>
            <a:off x="2778840" y="404964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80840" y="649116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AG Rounded Lt"/>
              </a:rPr>
              <a:t>U.S.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ore Dynamic Look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esh Content Every Busines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557360"/>
            <a:ext cx="726768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706400">
            <a:off x="3787560" y="3336840"/>
            <a:ext cx="625320" cy="174600"/>
          </a:xfrm>
          <a:prstGeom prst="leftArrow">
            <a:avLst>
              <a:gd name="adj1" fmla="val 50000"/>
              <a:gd name="adj2" fmla="val 895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1044720" y="1552680"/>
            <a:ext cx="7267320" cy="5329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Dynamic Look: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sier 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06360" y="2554200"/>
            <a:ext cx="420840" cy="25092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0040" y="2557440"/>
            <a:ext cx="801720" cy="23328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1080" y="2560680"/>
            <a:ext cx="1085760" cy="22212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46440" y="2558880"/>
            <a:ext cx="709560" cy="20340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3240" y="2554200"/>
            <a:ext cx="1044720" cy="22860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855200">
            <a:off x="12175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3855200">
            <a:off x="19411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3855200">
            <a:off x="28303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3855200">
            <a:off x="378288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3855200">
            <a:off x="46465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3376" r="1030" b="3125"/>
          <a:stretch/>
        </p:blipFill>
        <p:spPr>
          <a:xfrm>
            <a:off x="563400" y="642960"/>
            <a:ext cx="7724880" cy="547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36840" y="1708200"/>
            <a:ext cx="739800" cy="231840"/>
          </a:xfrm>
          <a:prstGeom prst="rect">
            <a:avLst/>
          </a:prstGeom>
          <a:solidFill>
            <a:srgbClr val="33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646600">
            <a:off x="856800" y="2206800"/>
            <a:ext cx="392040" cy="231480"/>
          </a:xfrm>
          <a:prstGeom prst="leftArrow">
            <a:avLst>
              <a:gd name="adj1" fmla="val 50000"/>
              <a:gd name="adj2" fmla="val 423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570040"/>
            <a:ext cx="1616040" cy="2316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5723E-006 L 0.69115 -0.00208 E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25890" r="1041" b="605"/>
          <a:stretch/>
        </p:blipFill>
        <p:spPr>
          <a:xfrm>
            <a:off x="625320" y="1641600"/>
            <a:ext cx="7952040" cy="442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4400" y="1425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9720" y="1541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7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ick Links: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t the Bottom of Every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446600">
            <a:off x="196920" y="3773160"/>
            <a:ext cx="628560" cy="27936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00069 0.10486 E">
                                      <p:cBhvr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341360"/>
            <a:ext cx="726768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w Search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3600" y="3440880"/>
            <a:ext cx="3632760" cy="181404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pgraded search engine greatly improves searching 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828200">
            <a:off x="3178800" y="2494440"/>
            <a:ext cx="1393920" cy="189000"/>
          </a:xfrm>
          <a:prstGeom prst="rightArrow">
            <a:avLst>
              <a:gd name="adj1" fmla="val 50000"/>
              <a:gd name="adj2" fmla="val 1843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endar of BLS News Rel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3376" r="1030" b="3874"/>
          <a:stretch/>
        </p:blipFill>
        <p:spPr>
          <a:xfrm>
            <a:off x="960480" y="1511280"/>
            <a:ext cx="7121520" cy="5346720"/>
          </a:xfrm>
          <a:prstGeom prst="rect">
            <a:avLst/>
          </a:prstGeom>
          <a:ln w="0">
            <a:noFill/>
          </a:ln>
        </p:spPr>
      </p:pic>
      <p:sp>
        <p:nvSpPr>
          <p:cNvPr id="87" name="Round Diagonal Corner Rectangle 5"/>
          <p:cNvSpPr/>
          <p:nvPr/>
        </p:nvSpPr>
        <p:spPr>
          <a:xfrm>
            <a:off x="5483160" y="2532240"/>
            <a:ext cx="3479760" cy="19872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More comprehensive calendar will show all releases scheduled for the week including annual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421" r="1008" b="3908"/>
          <a:stretch/>
        </p:blipFill>
        <p:spPr>
          <a:xfrm>
            <a:off x="333360" y="477720"/>
            <a:ext cx="8058240" cy="5658120"/>
          </a:xfrm>
          <a:prstGeom prst="rect">
            <a:avLst/>
          </a:prstGeom>
          <a:ln w="0">
            <a:noFill/>
          </a:ln>
        </p:spPr>
      </p:pic>
      <p:sp>
        <p:nvSpPr>
          <p:cNvPr id="89" name="Round Diagonal Corner Rectangle 5"/>
          <p:cNvSpPr/>
          <p:nvPr/>
        </p:nvSpPr>
        <p:spPr>
          <a:xfrm>
            <a:off x="3529080" y="3259080"/>
            <a:ext cx="2955960" cy="18144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We offer different calendar options: Monthly View, List View, and 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7911800">
            <a:off x="6356160" y="2844360"/>
            <a:ext cx="536760" cy="203040"/>
          </a:xfrm>
          <a:prstGeom prst="rightArrow">
            <a:avLst>
              <a:gd name="adj1" fmla="val 50000"/>
              <a:gd name="adj2" fmla="val 660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13577 -0.00208 E">
                                      <p:cBhvr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ulti-Media 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65" t="3376" r="1499" b="4002"/>
          <a:stretch/>
        </p:blipFill>
        <p:spPr>
          <a:xfrm>
            <a:off x="503280" y="1409760"/>
            <a:ext cx="7678800" cy="5448240"/>
          </a:xfrm>
          <a:prstGeom prst="rect">
            <a:avLst/>
          </a:prstGeom>
          <a:ln w="0">
            <a:noFill/>
          </a:ln>
        </p:spPr>
      </p:pic>
      <p:sp>
        <p:nvSpPr>
          <p:cNvPr id="93" name="Round Diagonal Corner Rectangle 8"/>
          <p:cNvSpPr/>
          <p:nvPr/>
        </p:nvSpPr>
        <p:spPr>
          <a:xfrm>
            <a:off x="4254480" y="3067200"/>
            <a:ext cx="4572000" cy="183672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Multi-media tutorials offer video, audio, and text to help you use various data tools and other features of the BL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546800">
            <a:off x="1761840" y="2314080"/>
            <a:ext cx="691920" cy="285840"/>
          </a:xfrm>
          <a:prstGeom prst="leftArrow">
            <a:avLst>
              <a:gd name="adj1" fmla="val 50000"/>
              <a:gd name="adj2" fmla="val 60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55112E-017 L 4.44444E-006 0.3625 E">
                                      <p:cBhvr>
                                        <p:cTn id="1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6:20:21Z</dcterms:created>
  <dc:creator>JACK_T</dc:creator>
  <dc:description/>
  <dc:language>en-US</dc:language>
  <cp:lastModifiedBy>JACK_T</cp:lastModifiedBy>
  <dcterms:modified xsi:type="dcterms:W3CDTF">2008-06-20T21:55:50Z</dcterms:modified>
  <cp:revision>82</cp:revision>
  <dc:subject/>
  <dc:title>Slide 1</dc:title>
</cp:coreProperties>
</file>