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5C07-9B71-4B52-83A0-22515DBB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1709-D18F-4EBB-92D6-E95FD07F9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986B4350-FC81-44F0-BC56-8C61953CB9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CE7B-DDB9-4819-94AE-2519EE31E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EFBCBA80-01DE-443B-9310-42FFA44D96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12D-96CE-4EEB-9C45-B04FA3D1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67D-E524-4D7A-B68B-9F9A63B5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E06-C48B-4B53-9D65-5EFC5888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EC0-3AD4-4BBF-A2F0-328CECAB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2C6-520B-455B-A6F0-40205EF9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A74-FDD2-4DE1-BF38-DAA73A64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ED5-ABF6-4D5C-8410-FC8017E0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C23-81EB-41D2-8F10-A470F694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F8F-CE5D-4F4E-B825-0DEA14A1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74A-ACA8-4A68-A724-22D3B343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F00-B6D6-41E6-BDE5-5E61A30D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215-0064-4BE9-BAC9-EB51D01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CFA-AA8A-4EE6-9615-7082343E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77120" y="5894280"/>
            <a:ext cx="8049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51040" y="1824120"/>
            <a:ext cx="7515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Albertus"/>
              </a:rPr>
              <a:t>Redesigned with You in 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5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f5f5f"/>
                </a:solidFill>
                <a:latin typeface="Albertus"/>
              </a:rPr>
              <a:t>BLS Webs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8400" y="936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lbertus"/>
              </a:rPr>
              <a:t>BLS Webs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07840" y="1780920"/>
            <a:ext cx="7515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lbertus"/>
              </a:rPr>
              <a:t>Redesigned with You in 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34480" y="2836800"/>
            <a:ext cx="381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lbertus"/>
              </a:rPr>
              <a:t>www.bls.go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07480" y="2786040"/>
            <a:ext cx="381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lbertus"/>
              </a:rPr>
              <a:t>www.bls.go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67160" y="3894120"/>
            <a:ext cx="1901880" cy="224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880" y="633420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AG Rounded Lt"/>
              </a:rPr>
              <a:t>U.S. Bureau of Labo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udio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3125" r="938" b="0"/>
          <a:stretch/>
        </p:blipFill>
        <p:spPr>
          <a:xfrm>
            <a:off x="644400" y="1252440"/>
            <a:ext cx="7642440" cy="5604120"/>
          </a:xfrm>
          <a:prstGeom prst="rect">
            <a:avLst/>
          </a:prstGeom>
          <a:ln w="0">
            <a:noFill/>
          </a:ln>
        </p:spPr>
      </p:pic>
      <p:sp>
        <p:nvSpPr>
          <p:cNvPr id="97" name="Round Diagonal Corner Rectangle 5"/>
          <p:cNvSpPr/>
          <p:nvPr/>
        </p:nvSpPr>
        <p:spPr>
          <a:xfrm>
            <a:off x="439560" y="2822400"/>
            <a:ext cx="3737160" cy="232920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Audio Files will be added to the BLS website. The first will accompany the July Spotlight on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57600">
            <a:off x="3890520" y="5006880"/>
            <a:ext cx="479520" cy="884160"/>
          </a:xfrm>
          <a:prstGeom prst="upArrow">
            <a:avLst>
              <a:gd name="adj1" fmla="val 50000"/>
              <a:gd name="adj2" fmla="val 4609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457200" y="1760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uide to Geographi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3125" r="938" b="16129"/>
          <a:stretch/>
        </p:blipFill>
        <p:spPr>
          <a:xfrm>
            <a:off x="276120" y="1144440"/>
            <a:ext cx="822636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Round Diagonal Corner Rectangle 9"/>
          <p:cNvSpPr/>
          <p:nvPr/>
        </p:nvSpPr>
        <p:spPr>
          <a:xfrm>
            <a:off x="5602320" y="1254240"/>
            <a:ext cx="3301920" cy="190188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Quick view of BLS major products available by geographic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gion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-185" t="3125" r="749" b="0"/>
          <a:stretch/>
        </p:blipFill>
        <p:spPr>
          <a:xfrm>
            <a:off x="468360" y="1009800"/>
            <a:ext cx="7769160" cy="5678280"/>
          </a:xfrm>
          <a:prstGeom prst="rect">
            <a:avLst/>
          </a:prstGeom>
          <a:ln w="0">
            <a:noFill/>
          </a:ln>
        </p:spPr>
      </p:pic>
      <p:sp>
        <p:nvSpPr>
          <p:cNvPr id="104" name="Round Diagonal Corner Rectangle 9"/>
          <p:cNvSpPr/>
          <p:nvPr/>
        </p:nvSpPr>
        <p:spPr>
          <a:xfrm>
            <a:off x="4800600" y="1368360"/>
            <a:ext cx="4000680" cy="190188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News releases, tables, and other products from the eight BLS Regional Information offices will now be easier to f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bject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3125" r="749" b="3125"/>
          <a:stretch/>
        </p:blipFill>
        <p:spPr>
          <a:xfrm>
            <a:off x="455760" y="1309680"/>
            <a:ext cx="7742160" cy="5484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25360" y="2400480"/>
            <a:ext cx="841680" cy="23328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825400">
            <a:off x="4737600" y="4583880"/>
            <a:ext cx="515880" cy="250920"/>
          </a:xfrm>
          <a:prstGeom prst="rightArrow">
            <a:avLst>
              <a:gd name="adj1" fmla="val 50000"/>
              <a:gd name="adj2" fmla="val 513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 Diagonal Corner Rectangle 9"/>
          <p:cNvSpPr/>
          <p:nvPr/>
        </p:nvSpPr>
        <p:spPr>
          <a:xfrm>
            <a:off x="5467320" y="2443320"/>
            <a:ext cx="3216240" cy="117612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mproved navigation within subjec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atabases, Tables &amp;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c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3125" r="1218" b="0"/>
          <a:stretch/>
        </p:blipFill>
        <p:spPr>
          <a:xfrm>
            <a:off x="573120" y="1189080"/>
            <a:ext cx="7705800" cy="566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08160" y="2268360"/>
            <a:ext cx="1131840" cy="25884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44560" y="5440320"/>
            <a:ext cx="1770120" cy="565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965200">
            <a:off x="5186160" y="5762520"/>
            <a:ext cx="474840" cy="287280"/>
          </a:xfrm>
          <a:prstGeom prst="rightArrow">
            <a:avLst>
              <a:gd name="adj1" fmla="val 50000"/>
              <a:gd name="adj2" fmla="val 413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4.39306E-006 L 0.18333 -0.00417 E">
                                      <p:cBhvr>
                                        <p:cTn id="209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3125" r="938" b="0"/>
          <a:stretch/>
        </p:blipFill>
        <p:spPr>
          <a:xfrm>
            <a:off x="946080" y="1531800"/>
            <a:ext cx="7267680" cy="5329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ources for Site Vis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5160" y="4800600"/>
            <a:ext cx="1828800" cy="1857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 Diagonal Corner Rectangle 5"/>
          <p:cNvSpPr/>
          <p:nvPr/>
        </p:nvSpPr>
        <p:spPr>
          <a:xfrm>
            <a:off x="5381640" y="1425600"/>
            <a:ext cx="3232080" cy="451008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These pages highlight resources that may be useful to specific audiences, such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Business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Inv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Jobsee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Public Policy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Students &amp;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- Survey Respon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ources for Site Vis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3500" r="1499" b="0"/>
          <a:stretch/>
        </p:blipFill>
        <p:spPr>
          <a:xfrm>
            <a:off x="507960" y="1209600"/>
            <a:ext cx="7688160" cy="5648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8620200">
            <a:off x="1937520" y="2514240"/>
            <a:ext cx="1055880" cy="343080"/>
          </a:xfrm>
          <a:prstGeom prst="rightArrow">
            <a:avLst>
              <a:gd name="adj1" fmla="val 50000"/>
              <a:gd name="adj2" fmla="val 7694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0578E-006 L -0.0382 0.07908 E">
                                      <p:cBhvr>
                                        <p:cTn id="23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ources for Consu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25" r="1310" b="11380"/>
          <a:stretch/>
        </p:blipFill>
        <p:spPr>
          <a:xfrm>
            <a:off x="522360" y="1552680"/>
            <a:ext cx="7705800" cy="50068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31040" y="4073400"/>
            <a:ext cx="381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lbertus"/>
              </a:rPr>
              <a:t>www.bls.go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06560" y="3027240"/>
            <a:ext cx="7515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lbertus"/>
              </a:rPr>
              <a:t>Launch: July 21, 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5120" y="1353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f5f5f"/>
                </a:solidFill>
                <a:latin typeface="Albertus"/>
              </a:rPr>
              <a:t>BLS Webs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8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lbertus"/>
              </a:rPr>
              <a:t>BLS Webs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82440" y="2975040"/>
            <a:ext cx="75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lbertus"/>
              </a:rPr>
              <a:t>Launch: July 21, 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4400" y="453960"/>
            <a:ext cx="215244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lbertus Medium"/>
              </a:rPr>
              <a:t>Redesigned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lbertus Medium"/>
              <a:ea typeface="Albertus Medium"/>
            </a:endParaRPr>
          </a:p>
        </p:txBody>
      </p:sp>
      <p:sp>
        <p:nvSpPr>
          <p:cNvPr id="130" name=""/>
          <p:cNvSpPr/>
          <p:nvPr/>
        </p:nvSpPr>
        <p:spPr>
          <a:xfrm>
            <a:off x="2778840" y="4049640"/>
            <a:ext cx="381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anchorCtr="1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lbertus"/>
              </a:rPr>
              <a:t>www.bls.go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80840" y="649116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AG Rounded Lt"/>
              </a:rPr>
              <a:t>U.S. Bureau of Labor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 thruBlk="true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ore Dynamic Look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resh Content Every Business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3125" r="938" b="0"/>
          <a:stretch/>
        </p:blipFill>
        <p:spPr>
          <a:xfrm>
            <a:off x="946080" y="1557360"/>
            <a:ext cx="7267680" cy="532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706400">
            <a:off x="3787560" y="3336840"/>
            <a:ext cx="625320" cy="174600"/>
          </a:xfrm>
          <a:prstGeom prst="leftArrow">
            <a:avLst>
              <a:gd name="adj1" fmla="val 50000"/>
              <a:gd name="adj2" fmla="val 8953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3125" r="938" b="0"/>
          <a:stretch/>
        </p:blipFill>
        <p:spPr>
          <a:xfrm>
            <a:off x="1044720" y="1552680"/>
            <a:ext cx="7267320" cy="5329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Dynamic Look: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sier Nav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06360" y="2554200"/>
            <a:ext cx="420840" cy="25092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0040" y="2557440"/>
            <a:ext cx="801720" cy="23328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21080" y="2560680"/>
            <a:ext cx="1085760" cy="22212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46440" y="2558880"/>
            <a:ext cx="709560" cy="20340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3240" y="2554200"/>
            <a:ext cx="1044720" cy="228600"/>
          </a:xfrm>
          <a:prstGeom prst="rect">
            <a:avLst/>
          </a:prstGeom>
          <a:solidFill>
            <a:srgbClr val="3333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855200">
            <a:off x="1217520" y="2977560"/>
            <a:ext cx="928800" cy="376200"/>
          </a:xfrm>
          <a:prstGeom prst="rightArrow">
            <a:avLst>
              <a:gd name="adj1" fmla="val 50000"/>
              <a:gd name="adj2" fmla="val 617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3855200">
            <a:off x="1941120" y="2977560"/>
            <a:ext cx="928800" cy="376200"/>
          </a:xfrm>
          <a:prstGeom prst="rightArrow">
            <a:avLst>
              <a:gd name="adj1" fmla="val 50000"/>
              <a:gd name="adj2" fmla="val 617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3855200">
            <a:off x="2830320" y="2977560"/>
            <a:ext cx="928800" cy="376200"/>
          </a:xfrm>
          <a:prstGeom prst="rightArrow">
            <a:avLst>
              <a:gd name="adj1" fmla="val 50000"/>
              <a:gd name="adj2" fmla="val 617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3855200">
            <a:off x="3782880" y="2977560"/>
            <a:ext cx="928800" cy="376200"/>
          </a:xfrm>
          <a:prstGeom prst="rightArrow">
            <a:avLst>
              <a:gd name="adj1" fmla="val 50000"/>
              <a:gd name="adj2" fmla="val 617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3855200">
            <a:off x="4646520" y="2977560"/>
            <a:ext cx="928800" cy="376200"/>
          </a:xfrm>
          <a:prstGeom prst="rightArrow">
            <a:avLst>
              <a:gd name="adj1" fmla="val 50000"/>
              <a:gd name="adj2" fmla="val 617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3376" r="1030" b="3125"/>
          <a:stretch/>
        </p:blipFill>
        <p:spPr>
          <a:xfrm>
            <a:off x="563400" y="642960"/>
            <a:ext cx="7724880" cy="5473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36840" y="1708200"/>
            <a:ext cx="739800" cy="231840"/>
          </a:xfrm>
          <a:prstGeom prst="rect">
            <a:avLst/>
          </a:prstGeom>
          <a:solidFill>
            <a:srgbClr val="33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646600">
            <a:off x="856800" y="2206800"/>
            <a:ext cx="392040" cy="231480"/>
          </a:xfrm>
          <a:prstGeom prst="leftArrow">
            <a:avLst>
              <a:gd name="adj1" fmla="val 50000"/>
              <a:gd name="adj2" fmla="val 4234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570040"/>
            <a:ext cx="1616040" cy="2316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5723E-006 L 0.69115 -0.00208 E">
                                      <p:cBhvr>
                                        <p:cTn id="83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25890" r="1041" b="605"/>
          <a:stretch/>
        </p:blipFill>
        <p:spPr>
          <a:xfrm>
            <a:off x="625320" y="1641600"/>
            <a:ext cx="7952040" cy="4429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44400" y="1425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9720" y="1541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74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ick Links: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t the Bottom of Every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446600">
            <a:off x="196920" y="3773160"/>
            <a:ext cx="628560" cy="279360"/>
          </a:xfrm>
          <a:prstGeom prst="rightArrow">
            <a:avLst>
              <a:gd name="adj1" fmla="val 50000"/>
              <a:gd name="adj2" fmla="val 5625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-0.00069 0.10486 E">
                                      <p:cBhvr>
                                        <p:cTn id="9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3125" r="938" b="0"/>
          <a:stretch/>
        </p:blipFill>
        <p:spPr>
          <a:xfrm>
            <a:off x="946080" y="1341360"/>
            <a:ext cx="7267680" cy="532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ew Search En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3600" y="3440880"/>
            <a:ext cx="3632760" cy="1814040"/>
          </a:xfrm>
          <a:prstGeom prst="rect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pgraded search engine greatly improves searching 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828200">
            <a:off x="3178800" y="2494440"/>
            <a:ext cx="1393920" cy="189000"/>
          </a:xfrm>
          <a:prstGeom prst="rightArrow">
            <a:avLst>
              <a:gd name="adj1" fmla="val 50000"/>
              <a:gd name="adj2" fmla="val 18438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endar of BLS News Rele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3376" r="1030" b="3874"/>
          <a:stretch/>
        </p:blipFill>
        <p:spPr>
          <a:xfrm>
            <a:off x="960480" y="1511280"/>
            <a:ext cx="7121520" cy="5346720"/>
          </a:xfrm>
          <a:prstGeom prst="rect">
            <a:avLst/>
          </a:prstGeom>
          <a:ln w="0">
            <a:noFill/>
          </a:ln>
        </p:spPr>
      </p:pic>
      <p:sp>
        <p:nvSpPr>
          <p:cNvPr id="87" name="Round Diagonal Corner Rectangle 5"/>
          <p:cNvSpPr/>
          <p:nvPr/>
        </p:nvSpPr>
        <p:spPr>
          <a:xfrm>
            <a:off x="5483160" y="2532240"/>
            <a:ext cx="3479760" cy="198720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More comprehensive calendar will show all releases scheduled for the week including annual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3421" r="1008" b="3908"/>
          <a:stretch/>
        </p:blipFill>
        <p:spPr>
          <a:xfrm>
            <a:off x="333360" y="477720"/>
            <a:ext cx="8058240" cy="5658120"/>
          </a:xfrm>
          <a:prstGeom prst="rect">
            <a:avLst/>
          </a:prstGeom>
          <a:ln w="0">
            <a:noFill/>
          </a:ln>
        </p:spPr>
      </p:pic>
      <p:sp>
        <p:nvSpPr>
          <p:cNvPr id="89" name="Round Diagonal Corner Rectangle 5"/>
          <p:cNvSpPr/>
          <p:nvPr/>
        </p:nvSpPr>
        <p:spPr>
          <a:xfrm>
            <a:off x="3529080" y="3259080"/>
            <a:ext cx="2955960" cy="181440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We offer different calendar options: Monthly View, List View, and 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7911800">
            <a:off x="6356160" y="2844360"/>
            <a:ext cx="536760" cy="203040"/>
          </a:xfrm>
          <a:prstGeom prst="rightArrow">
            <a:avLst>
              <a:gd name="adj1" fmla="val 50000"/>
              <a:gd name="adj2" fmla="val 660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2428E-007 L 0.13577 -0.00208 E">
                                      <p:cBhvr>
                                        <p:cTn id="13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ulti-Media Tu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565" t="3376" r="1499" b="4002"/>
          <a:stretch/>
        </p:blipFill>
        <p:spPr>
          <a:xfrm>
            <a:off x="503280" y="1409760"/>
            <a:ext cx="7678800" cy="5448240"/>
          </a:xfrm>
          <a:prstGeom prst="rect">
            <a:avLst/>
          </a:prstGeom>
          <a:ln w="0">
            <a:noFill/>
          </a:ln>
        </p:spPr>
      </p:pic>
      <p:sp>
        <p:nvSpPr>
          <p:cNvPr id="93" name="Round Diagonal Corner Rectangle 8"/>
          <p:cNvSpPr/>
          <p:nvPr/>
        </p:nvSpPr>
        <p:spPr>
          <a:xfrm>
            <a:off x="4254480" y="3067200"/>
            <a:ext cx="4572000" cy="1836720"/>
          </a:xfrm>
          <a:prstGeom prst="pie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Multi-media tutorials offer video, audio, and text to help you use various data tools and other features of the BLS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9546800">
            <a:off x="1761840" y="2314080"/>
            <a:ext cx="691920" cy="285840"/>
          </a:xfrm>
          <a:prstGeom prst="leftArrow">
            <a:avLst>
              <a:gd name="adj1" fmla="val 50000"/>
              <a:gd name="adj2" fmla="val 605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55112E-017 L 4.44444E-006 0.3625 E">
                                      <p:cBhvr>
                                        <p:cTn id="14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6:20:21Z</dcterms:created>
  <dc:creator>JACK_T</dc:creator>
  <dc:description/>
  <dc:language>en-US</dc:language>
  <cp:lastModifiedBy>JACK_T</cp:lastModifiedBy>
  <dcterms:modified xsi:type="dcterms:W3CDTF">2008-06-20T21:55:50Z</dcterms:modified>
  <cp:revision>82</cp:revision>
  <dc:subject/>
  <dc:title>Slide 1</dc:title>
</cp:coreProperties>
</file>